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3F7-49B1-4722-98D2-DF8B183D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B6C-267F-493A-893D-9B0C66A4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E24-1B9C-4929-8040-DA870DDF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F30-F682-4E51-AEE6-63BEF0D5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310C-6E35-4CA3-95EC-E245F263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9650-210D-494B-B204-BA4D2FDF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EC62-71B2-43D0-A7EA-B8C4919A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DF13-8C8E-410E-B816-EB643504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1127-474B-460D-A11B-39A5A3BA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49BE-8B5C-47B0-87C6-D87BA45F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8302-3793-4EA7-B6F1-0612869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21D-C1B3-41C1-9727-CD2ACDB0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2D99-C08F-43C8-B0B1-FE005A26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5C90-CCBC-4C36-845B-0C944281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B01D-06AB-473C-BEF8-1322B0AC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5924-9E25-4812-8AF9-69F09C9C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F4BE-1FA9-4D26-A010-FD6F2706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2EF-2C98-42C1-9E63-D4823E86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74C-1B11-4425-90B6-5E65D191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D98-D944-4265-80BC-465DF95E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B4B-F962-4788-AEA8-D0B58BD1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612-BF0B-4A56-BDE0-BCADA417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67B-65FD-4B72-9CAB-EA2CE057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D8CC-FC5F-4E3F-AF8B-EDCCA4AF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58DF-BCE7-4875-9BD3-54E1315D2399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B014-0237-4B93-B4AB-B661DED08A7F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KOREAN LANGU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LVEL 1 (NOVICE)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General Course Information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Instructor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Transitional P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32172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400" spc="-1" strike="noStrike">
              <a:solidFill>
                <a:srgbClr val="000000"/>
              </a:solidFill>
              <a:latin typeface="Eurostile"/>
              <a:ea typeface="굴림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Your Topic Goes Here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Elements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www.animationfactory.co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92" name="Picture 224" descr="Z:\newtek\_backgrounds_1.02\Tim\powerpoint templates\101-120\cloud_skipper\cloud_skipper_prt.jpg"/>
          <p:cNvPicPr/>
          <p:nvPr/>
        </p:nvPicPr>
        <p:blipFill>
          <a:blip r:embed="rId1"/>
          <a:stretch/>
        </p:blipFill>
        <p:spPr>
          <a:xfrm>
            <a:off x="6983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5" descr="Z:\newtek\_backgrounds_1.02\Tim\powerpoint templates\101-120\cloud_skipper\cloud_skipper_qx.jpg"/>
          <p:cNvPicPr/>
          <p:nvPr/>
        </p:nvPicPr>
        <p:blipFill>
          <a:blip r:embed="rId2"/>
          <a:stretch/>
        </p:blipFill>
        <p:spPr>
          <a:xfrm>
            <a:off x="152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6" descr="Z:\newtek\_backgrounds_1.02\Tim\powerpoint templates\101-120\cloud_skipper\cloud_skipper_sld.jpg"/>
          <p:cNvPicPr/>
          <p:nvPr/>
        </p:nvPicPr>
        <p:blipFill>
          <a:blip r:embed="rId3"/>
          <a:stretch/>
        </p:blipFill>
        <p:spPr>
          <a:xfrm>
            <a:off x="2428920" y="5218200"/>
            <a:ext cx="2009880" cy="150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7" descr="Z:\newtek\_backgrounds_1.02\Tim\powerpoint templates\101-120\cloud_skipper\cloud_skipper_trs.jpg"/>
          <p:cNvPicPr/>
          <p:nvPr/>
        </p:nvPicPr>
        <p:blipFill>
          <a:blip r:embed="rId4"/>
          <a:stretch/>
        </p:blipFill>
        <p:spPr>
          <a:xfrm>
            <a:off x="4705200" y="5218200"/>
            <a:ext cx="2009880" cy="150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y</cp:lastModifiedBy>
  <dcterms:modified xsi:type="dcterms:W3CDTF">2012-07-26T08:41:49Z</dcterms:modified>
  <cp:revision>1</cp:revision>
  <dc:subject/>
  <dc:title>KOREAN LANGUAGE</dc:title>
</cp:coreProperties>
</file>